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2A1-7647-4988-BFBE-FB3AD95E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F51-AF80-4BB8-96C4-A03B809A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A90EF-777C-4D9A-A232-A248B8DE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59EC9-918C-4276-B018-982649CD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F89CB-22BF-4B2C-BF4F-3D009BDC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DC0C2-5A08-4387-87CF-C08CE496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4A1FA-D787-4E88-8268-EAAC7A0B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CCB97-3715-462B-ABB7-EDE105E6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BA55A-ECE0-43D1-9670-8E1D46EC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44139-F285-46A9-9D77-541534A8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5FBFF-4155-48B3-B379-371790D8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136E6-00C7-43E1-A30E-A40F2909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3C8-EC09-40D5-9DAF-2447BF36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BC086-0D15-4614-B123-D0FE5B22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AA43C-24F7-4FFA-A31F-9FDDFEE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58C3B-89F8-4126-9F40-0602843E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FFB59-702E-4DC4-BAB6-5AE22AA2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D4690-2E15-4881-B62B-FFB5BA4D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13A11-8B07-42E5-BCE3-FB977B9B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DE464-06EA-417F-8746-E2F52A72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D2187-0CAF-4900-BBE7-EF1047AB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B5210-99E6-46BE-B9FC-34521880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1FB27-88F6-4A3D-8B53-F52B485D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F78-9F7E-4496-8A43-4B829007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C8072-F4B7-4ACA-B6F0-B3900581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0F821-4FFD-40E5-93FD-8ADA2957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62E92-37E4-4596-A5BD-CB72A74D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B96D7-7C07-4810-B7EB-CE26D400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62EED-CD45-4786-984F-37950E09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DAD83-C21E-4218-84D0-519FB2DC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A0707-4DB2-47CC-A894-A48A482A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08629-1F82-44DA-B42E-1A2CBDE5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04919-3798-4CB5-BAF3-34274A53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9D61D-51AB-433F-A53E-D7349B77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E8D6-6BC0-4E19-944E-A4B290FC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2ED21-14E0-473B-AEE8-37A5A901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5C87B-F6F3-4BE5-AB07-1125200F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0A195-E801-4604-8DBF-6B206C29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2FCF6-6867-437C-9E1D-F15F8BD9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D57DE-BD9C-4CA7-8584-C333084D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3AA49-C81A-4D14-B7EF-DD1484B3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70123-2FAA-45EA-BC77-40374DD5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0D8AF-481C-4F62-91E5-74B768A2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3E986-5249-42DF-A6DA-C52548F7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672E8-5706-4A80-88A9-248176F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5BDB-3682-4E16-B756-BD1D801A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D46F7-2BB2-4AEA-9828-9CAD167D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B2AAA-C397-4653-B867-ACA5D413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9EE43-972D-42B4-9997-B7A2786C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B5203-23FA-4DC0-8DC3-2BA58D3E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71F6C-E969-4514-B6AD-81AD5898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A7FB9-54B7-4716-850E-9BB13F71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45C4C-8C75-4BAE-B6F0-17D5B25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AE778-8D00-44AF-9A0E-DDBB5CB4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8156F-3EA7-47F0-BC82-BC974BED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E2996-99F9-4CD9-9C76-2E1130BD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8CCE-1A5D-457C-9407-53DD8A54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4D976-2A77-4FB2-8E57-A3E91760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C026D-9652-4B8B-BD46-3A75E811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D58CA-0132-4356-9FD7-4E6E5F6A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8D774-1795-46EB-9F82-9A4D4D26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33D83-390B-4D07-8757-50520421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8B576-9E2F-43F2-A4C0-A779D9F6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5ADAF-8363-49E5-AD69-D12F2E26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967B9-9639-41AA-95AE-A65B99E7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141E6-9B13-4141-AFB1-1AA879E4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B758E-2388-4D88-8FDC-08BC5209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252C-3D35-4ECC-B57F-3B5E27B3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6DA31-BD28-40EC-BBB2-08EC423A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AECD7-D2B4-4FB6-B7CB-1928880D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45F46-99A9-4703-99DA-C3E7F378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212E3-0B94-4098-B28C-9DFC94F7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8277E-FBF2-4D4B-850A-25F9C312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6F591-1F44-4120-82F3-F46D4D1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805D4-520A-4491-9A7D-C4197CC1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70377-F664-48C7-8460-F9B5C9C9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EFECA-D292-48AC-81CD-917E7771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90DEF-8D0C-40FF-A170-86295AE1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4D84-86A1-4E8D-8D50-D2FBB5D5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4A0D9-95DD-4C99-9051-B0B542BF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48C2B-5A08-45CD-8043-42279F3F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02FA8-23AC-4009-8E6D-9BFA4186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28F08-15F5-48F2-BCFE-E80D5BE0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A7880-ACB8-4CCC-8738-FAFF78B0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228B5-D362-4D7E-9CE9-330959DF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EADC5-43F5-4604-AE88-C1A9139C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63F22-BC57-4F0D-99A9-86B27425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32193-4EFC-49AD-9FFB-54A53BA4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E3CD1-6B9B-47F0-B03F-7CF3141A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6EA0-D558-4553-83C8-56277F5F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1B71D-BF88-4146-90C0-A9C91B8F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57A3D2-1319-4796-B2CB-C3AAF5A6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61CF6-99F6-4B1E-BF3B-81EAE448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7A98C-5579-431B-9E21-24AABF52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D27D46-1575-4933-B02C-3B2B3DFC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94FAF-7614-4C46-82F7-D3FB698D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78E20-7FE5-4B59-9A1B-F3928B2D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74624-06A6-4B7C-BAD1-621D482E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485BE-1BDE-4757-BAA0-43ACC654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70365-965C-43EF-97DD-E4288BCF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E2C3-72C0-4664-8856-95620D84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1D61E-97DD-44A6-8C2E-65807597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D7360-BA4B-47A8-8AD3-B9F478DA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3A286-9129-4CB7-8FE8-AF312CE0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7FC97-AAAF-469E-A675-7785C032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2898F-1DD1-45FD-BF96-ABE7AC00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273D6-93D6-4997-898A-79F58198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F931DD-4246-48F3-8CF8-B655953E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798552-C3EC-4CA7-922B-781C068C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EB459-860D-4491-A2BD-4EDD3FC6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FBDD4-86BD-4FE1-9C6D-9A5EA956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D5A-2E86-47F9-BF4E-D2542061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3248-F5F4-473E-B01D-C2C84C48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8D46AD-1648-4BF1-866B-FA048388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64853-4585-4513-8D4B-DA86306A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56D60-42FA-4D26-A6FD-BCB9FE20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A022B-3A8E-4DAB-AEF8-EA9024DC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ABCF7-86F4-49C1-9ED1-4DB6212A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BCD3F1-1C03-4780-8A0F-AF549D1B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7D699-6160-45E3-84C5-AE1060C9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05F50E-51D5-4D7F-B312-4F829A98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524D8-B85B-4EBE-86DE-4712253C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9AB10A-980D-4551-A090-3822E482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EAAD-FDF5-4D4A-BD1D-DE2726F2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928FC-0846-4AB4-ADC9-6B02BA8E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5C91E2-47AC-46FA-B38D-BAD3068B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76335-4824-432D-BD4C-4BB9F9FF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2D311-95CF-49A9-9467-528EDC59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5742A-F4B5-43A6-A3F7-272293C7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3A64F-CA92-4171-91F1-3F744A99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6E6807-3CF6-4F60-B94A-49EAD047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2D0091-4DDF-4955-93A7-D6586A3B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8A6911-76F8-44E5-ABA6-26996453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268D22-FA8F-4091-AC45-ECB67B6F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321F-347A-4DD6-BC00-ECA9F062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BA2AF-5E31-4C24-B468-4546C25C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2864C6-6906-4CFD-BC26-FF269127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01DD53-8C51-49E9-A06E-832E732F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F89715-F984-47E5-8C1E-45F61AE4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CE1558-5184-4355-A5A7-7F30D890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556D5B-CB51-4C4A-BEF8-B6E78BE7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AE3CE7-AF15-4E5D-805B-76FC62E5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85A6E5-1FED-4B31-A5F1-F1D8EE80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FEE80-5C91-4115-AEDA-C5E10266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FE08B-73A7-4FE0-9166-0A9DF3B1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2E49-BF2A-4CA7-810D-789DCADB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E9FFF2-1C16-44F7-861D-FC77FAC1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76967-9705-4BEE-A06F-457567CE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FB14A-57FF-4A98-BC6D-969C0D2B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FF81E0-0DE7-4CC4-B14C-41C48D4C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2C82AD-29B9-46B8-BA6C-630EDC46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6A1DC-3B71-4426-B1B8-EBF39099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D60911-3C9E-4EE1-8A76-2C231629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22025F-48E5-48B8-8EEA-F9BEB29F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C6A178-E913-4F2B-A9CC-AB530225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AEB147-6691-4699-AA7F-E353F0A2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8A3E-C8D2-4B79-B6CA-E725D02B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801DBB-6ED5-40C3-991B-CF081EEF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F2BCA-7494-4E49-9FBB-DE6A58F7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C4166-A96C-4529-9D91-2AE5343C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9EAED5-0E7B-492F-A457-49E61AD3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F919C0-0C13-4571-B8AA-A53E05A8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288965-3A4F-4BD3-8B99-C776F90A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D6E19-5E19-42BC-ABAE-8E5BE3F0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78F5D-A01B-4778-832E-2767A9A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4D174D-F547-4DF3-980C-FCE36244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D4E99C-0A1E-4D83-B870-0845465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E6D0-A1C7-4D73-8097-6FFB4EE8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77233-145E-4B92-8285-7E40376B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B386AD-ED80-4AD5-87ED-1DF5B7D9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7D50A-A223-4FCB-9C80-246F1BA0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89EF-A5D2-439E-BBD3-810AA083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4849-77BE-4E5A-9244-7B033058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891E-3002-474E-838D-8FDFCB63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6B41B-BBA0-4EB5-A6FD-AC160ADF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610-C69C-4B86-86E2-B6E9DFF8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03F4-FFC4-4169-BECC-6930BDD2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8461-B180-4495-8380-0A3EA80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0B3D-D682-41C7-9CCF-AD11B162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0D80-8BA9-4C99-B0E6-E33E6D0C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0EE5-F99B-4420-848E-F17AEE45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6612-0A9C-4263-9F1D-DA1A4B8B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7505-97DF-4AF4-BC2C-C9DA405F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8912-EAFE-4756-9FA6-291C11F9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8F914-64B0-41BE-8BB9-61E24EE9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AF401-CE59-4EAD-899F-4413B557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48A-A22B-47DD-8FDC-320A8328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5A7EC-1E32-488F-BF1A-FE8BD2C9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C015C-7849-42AF-83AF-240BACA6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1BE9F-B1FC-45B9-A4D6-9ED76D09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7ED8-2C47-467A-A11A-D496DA1F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1F22-7C21-42D5-9CF4-DD1E0133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1D830-3ABB-48E2-B430-CC34BD7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F4D2-FD97-4018-80CB-7E0E0926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57D9B-B4E3-4A16-9CE9-C2039531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A864-A203-42EA-9DA9-F0DE0E7D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1C64B-DEA1-4E01-A298-371114BD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DE8-1263-4FCE-9185-4903ECE2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FA995-275E-4649-92A3-7BF4A964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5F969-272E-41B5-966C-10CC90CB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80878-41A5-4D34-8F1D-68C26194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2845-F540-469C-92E9-6346AF49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D86D6-C179-4019-A2A2-C32B33CA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19BF7-62B6-4FE9-9DEA-1BBF87B7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FAB3-AF07-47CF-9F25-3A4A4EAA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965B7-0152-44F9-806A-116F6F69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408F4-6847-41D1-84F1-BB3C3CB2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BC3A9-BA72-4FDE-9C39-3FA78B6E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1EB-DFDF-4BD5-B1F1-31CEE717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06A8-E526-4799-AC62-6498C246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AC4ED-0AE3-4336-9385-94A04173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D54E2-6C85-43B6-8E24-AF378A02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6B438-5EB3-4E28-8609-88C78F38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23187-EA70-4904-A6AA-6C4FC4A4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D2016-39C8-442A-BE60-8AD678DA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29A95-9E89-4986-8E9D-48741555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A922A-B99B-4030-8AD1-6469D18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AA0C3-B077-4B68-954C-DDFF5754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A99C-1F69-4D4B-9F76-67D12177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37A-006F-4749-B47C-9E2FAAB2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53D99-D199-439D-AA0B-92B295ED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D1234-D201-4F83-8BD0-A6EDFF3E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A5561-A39D-4AA0-814A-E909B697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6BADF-E735-45FB-B796-8092359E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47983-4DB9-4D9E-A72E-BA6E6CF7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1404-4B67-47E1-B6DC-8B823EA0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ECD6B-2FB6-494C-97EC-B29C127F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A8569-E777-43F9-94CC-CBBBEF39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0DCFC-E7C4-4A56-9070-258D5336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B5225-2431-4E5B-A3B6-C1F6010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4FE-EA23-4D25-BD1B-0415855C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41F55-D234-4F21-A5B4-4EB70C3F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31ED2-8E59-4D37-920D-3F92F0A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877FB-C9A8-4431-822A-540008E6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B7ED2-4260-4A45-AF47-91552C47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9C6B3-F284-4A37-8E50-F986110F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260D2-252B-4774-B7A3-76BB7A31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74944-498A-4600-83D8-9B233920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50005-C4D5-42AA-A256-0FA66EA0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9B48-6563-4724-8A9C-0A750421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0D5E5-71A8-4E2C-A89D-762CAD0A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EF4-42C1-4267-91AC-4482D078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F4B58-23DE-4478-9087-9BFA60B5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92AE4-3A88-4FEB-844A-59280EEF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2FC4C-C53F-4E1C-BDB9-ACF894C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916DF-F655-4C98-AF02-C8A9E0E0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C51EB-F425-4B17-B8D0-82A46A33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71D9C-64FA-4CC6-A1D2-840E2824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8DD3F-F772-4E7F-A1AF-D2DEA376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D8A40-68A0-4276-A64F-1BDDF6BB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9848D-15B9-4C0C-B5B5-DDE75866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856F9-672F-4A8B-8966-42837156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CAA4-42D6-48C7-B4A7-3AFBA208F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EE3C-D154-480B-BE22-97079B3CF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E021-3DCA-4774-89BD-40321BB29B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F3EE-92E4-4F60-B535-39E177FAF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A7B5-6B0F-47A8-A9AE-1603BD81F4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0A01-5017-4AE5-B84B-8923E1488F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D110-4A7C-4E19-AB95-14002DB0D9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BEC-8CFF-4534-ADDD-30D99F9874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5320-14CB-4784-B8AA-49941B0D99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700A-638F-4F68-838F-986982D02C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87DE-2F6B-42B7-AC07-4AA509E9CF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2FD0-5E10-4119-98DF-AEEF3E889A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A998-6599-4D88-9DED-BD2AEECE07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6B59-1ECF-4A5E-9581-02116BA386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2B42-73CF-4FCA-B9C4-1A4AEC504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2B31-903A-4957-8EB9-E62AF827D2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94A6-424E-4C8C-A2B2-2A40451446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A581-2675-4F6B-A25F-E36A562DD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0B03-564F-48BA-84C4-DA8C65129D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654E-A920-4C59-902B-CF34278F35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25A8-95B7-49EA-8431-9F1CEDCE3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D98A-FF28-4698-AFA6-521042C7E5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2709-AE68-4F16-9494-940456D714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993B-2D2E-43F8-8729-8BA0BC1A99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477D-C785-41F9-83F5-1862CE8A6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A559-6771-454F-B3CE-C7EBD47D60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0D66-B9B4-43A9-91F0-E994720ED9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BA2C-9D1A-43CB-90D2-59691C98B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1EFB-8532-44CC-A04C-EAD8A6CF2A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BACC-EBFF-4729-98EF-DFF4A0BEA3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74FB-0E9F-4AE7-BC5A-5DD28153CC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B87E-142C-4431-A12C-6B14C49038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1AB4-1EED-4746-8811-1262B9F9A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9DDD-D419-4B27-BCBF-42180BB5E6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0F99-E224-4E6B-8B4F-9791918654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AA7D-A964-4119-84E5-57B8FEE7D8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1DFC-3969-4BF4-982C-E0761CEE17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8E49-F89F-4EE7-8E40-35099384A2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E055-B438-4920-8ECF-82A84A797E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05F0-58F8-4E80-9603-A8FF0C987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57120" y="3006720"/>
            <a:ext cx="8358120" cy="16272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"/>
          <p:cNvPicPr/>
          <p:nvPr/>
        </p:nvPicPr>
        <p:blipFill>
          <a:blip r:embed="rId2"/>
          <a:stretch/>
        </p:blipFill>
        <p:spPr>
          <a:xfrm>
            <a:off x="85680" y="3643200"/>
            <a:ext cx="628560" cy="1571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2" descr=""/>
          <p:cNvPicPr/>
          <p:nvPr/>
        </p:nvPicPr>
        <p:blipFill>
          <a:blip r:embed="rId3"/>
          <a:stretch/>
        </p:blipFill>
        <p:spPr>
          <a:xfrm>
            <a:off x="8429760" y="3643200"/>
            <a:ext cx="628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533520" y="804960"/>
            <a:ext cx="8076960" cy="5981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2"/>
          <a:stretch/>
        </p:blipFill>
        <p:spPr>
          <a:xfrm>
            <a:off x="1285920" y="1928880"/>
            <a:ext cx="7353360" cy="23716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3"/>
          <a:stretch/>
        </p:blipFill>
        <p:spPr>
          <a:xfrm>
            <a:off x="1247760" y="4429080"/>
            <a:ext cx="74674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8124840" cy="5086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1619280" y="399888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923760" y="1228680"/>
            <a:ext cx="7296480" cy="4400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3"/>
          <a:stretch/>
        </p:blipFill>
        <p:spPr>
          <a:xfrm>
            <a:off x="1403280" y="29908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4"/>
          <a:stretch/>
        </p:blipFill>
        <p:spPr>
          <a:xfrm>
            <a:off x="1403280" y="464652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500040" y="800280"/>
            <a:ext cx="8143920" cy="59148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1692360" y="205416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4"/>
          <a:stretch/>
        </p:blipFill>
        <p:spPr>
          <a:xfrm>
            <a:off x="1692360" y="263052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5"/>
          <a:stretch/>
        </p:blipFill>
        <p:spPr>
          <a:xfrm>
            <a:off x="1763640" y="313524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Picture 3" descr=""/>
          <p:cNvPicPr/>
          <p:nvPr/>
        </p:nvPicPr>
        <p:blipFill>
          <a:blip r:embed="rId1"/>
          <a:stretch/>
        </p:blipFill>
        <p:spPr>
          <a:xfrm>
            <a:off x="523800" y="1519200"/>
            <a:ext cx="8096400" cy="38196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830160" y="714240"/>
            <a:ext cx="7632720" cy="6072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471600" cy="438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4712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2" descr=""/>
          <p:cNvPicPr/>
          <p:nvPr/>
        </p:nvPicPr>
        <p:blipFill>
          <a:blip r:embed="rId1"/>
          <a:stretch/>
        </p:blipFill>
        <p:spPr>
          <a:xfrm>
            <a:off x="452520" y="1000080"/>
            <a:ext cx="8238960" cy="55720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1619280" y="48690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4"/>
          <a:stretch/>
        </p:blipFill>
        <p:spPr>
          <a:xfrm>
            <a:off x="1692360" y="623736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857160" y="1271520"/>
            <a:ext cx="7429680" cy="49435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3"/>
          <a:stretch/>
        </p:blipFill>
        <p:spPr>
          <a:xfrm>
            <a:off x="1258920" y="19112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4"/>
          <a:stretch/>
        </p:blipFill>
        <p:spPr>
          <a:xfrm>
            <a:off x="1258920" y="25653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5"/>
          <a:stretch/>
        </p:blipFill>
        <p:spPr>
          <a:xfrm>
            <a:off x="1258920" y="44308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6"/>
          <a:stretch/>
        </p:blipFill>
        <p:spPr>
          <a:xfrm>
            <a:off x="1258920" y="50846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7"/>
          <a:stretch/>
        </p:blipFill>
        <p:spPr>
          <a:xfrm>
            <a:off x="1258920" y="572760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6:03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